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D10-3B5E-400A-ADC5-74490FFB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EBB-6530-40AB-8EA2-269E3BEC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2932-86BA-40F1-AE1F-07BB8FE5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7711-A534-40E8-A6A1-37C62BA4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3871-ED54-4045-95C8-7DFACC88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947E-F186-4B46-B9F4-418279EF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EFF8-2EC2-422E-95A2-6630DAA1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0F04-21E7-4AE2-8C38-23427D88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252F-21E2-450E-B688-F121F99C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E60D-2C08-4542-BDC3-E8933D06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DDDB-649F-462D-9302-E729DCF2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5CCF-0608-4190-91FE-ED1E3C93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FCF6-56A3-470B-9390-D706D13A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6D48-73A3-44C6-8102-B8053741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D503-B5AF-4152-AFAE-DCB71306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2A11-C62A-430F-90E4-82CAF03C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5061-EED6-4EDC-9464-2B666A23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946-B212-4E97-BB4C-0E4E84B3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8C1-3DD0-4671-8BC8-742AE19A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557-42BB-494A-99CF-8F0793A9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3E34-0478-495F-97E1-6500DDE2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42A-0085-4718-BB1F-8D951AFF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01A-A8B8-43DF-B82B-4DE46FFF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85D-722B-4149-B025-AF36AB54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1F1D-DB7C-4F1E-9B86-FF3BF588E99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5B3D-CAAA-4238-A6D2-6343517135C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ill There Was No Remedy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(The Divided Kingdom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6, Lesson 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g. 49-5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Kings 22:45,50; 2 Chron.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76520" y="228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ere We Left O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762760" y="3124080"/>
            <a:ext cx="228600" cy="1143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1908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0968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wo Jorams: North and South: Son and Son-in-law of Ah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286000"/>
            <a:ext cx="6098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6248520"/>
            <a:ext cx="838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 Juda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th of Jehoshaphat -1 Kings 22:45-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horam (or Joram) – 2 Kings 8:16-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years of ev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married into Ahab’s fami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lls his brothers – 2 Chron.21:2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arouses neighboring revo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om revolts – 2 Kgs.8:20-2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bnah revolts – 8:2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1484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00200" y="4191120"/>
            <a:ext cx="533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5410080"/>
            <a:ext cx="1143000" cy="6858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609480"/>
            <a:ext cx="274320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Judah h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blems without (Edo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blems within (Libna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e next sl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2514600"/>
            <a:ext cx="1219320" cy="38088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Proble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horam receives a letter from Elijah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Chron.21:11-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asion of the Philistines and Arabians – v.16,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Year Disease &amp; Agonizing Death – 21:18-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badia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place it here (Waldron &amp; oth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s place it after the Babylonian Cap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it and see which makes better sense to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15:02:10Z</dcterms:created>
  <dc:creator>Terry W. Benton</dc:creator>
  <dc:description/>
  <dc:language>en-US</dc:language>
  <cp:lastModifiedBy>Frank D Vines</cp:lastModifiedBy>
  <dcterms:modified xsi:type="dcterms:W3CDTF">2005-08-09T13:31:42Z</dcterms:modified>
  <cp:revision>3</cp:revision>
  <dc:subject/>
  <dc:title>Till There Was No Remedy (The Divided Kingdom)</dc:title>
</cp:coreProperties>
</file>